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4DA8-06F0-4671-A2D3-128C43F55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893B-C984-4510-B785-F1E927EA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9C5C-FCE3-4206-94C1-958F8D592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740-5392-4ABB-8F76-0197D09A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1AB-430D-4A90-8DDC-972B1B3F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389-CC3C-4135-BB5A-2B6B1EE5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246-60CA-44EA-AF11-117DC1C9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064-0B31-434E-A10B-301C7791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072-1173-4553-990C-60A1475A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107-0CB8-4A58-A4DB-A3363429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E07-C75A-4BD8-97E5-1CC31C24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637-EA61-489F-8FFF-14E2DF57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698-C2A9-4B8B-BFB1-CCFE86D7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64B-EA3C-4BB9-8D80-F50C8937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57F-E01B-4209-A644-4C216029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8E94-3187-4E07-8364-63EFD965D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ejandra  and  Joce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2049650\Local Settings\Temporary Internet Files\Content.IE5\T7MUVQC1\MP900427992[1].jpg"/>
          <p:cNvPicPr/>
          <p:nvPr/>
        </p:nvPicPr>
        <p:blipFill>
          <a:blip r:embed="rId1"/>
          <a:stretch/>
        </p:blipFill>
        <p:spPr>
          <a:xfrm>
            <a:off x="1066680" y="2666880"/>
            <a:ext cx="807732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MS910220003[1].wav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06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al Ree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h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 gr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w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240" y="9903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al Reefs are in the ocean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is some Information . Fir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lor is  mostly red and blue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 they can live up to 70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d . Last, 25 % of the  Coral Ree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disappearing because  of 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lution of the ocean. 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st is the Great  Barrier Reef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 about  2,500 kilometers long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t’s found  in Austra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C:\Documents and Settings\2049650\Local Settings\Temporary Internet Files\Content.IE5\BFKGQQB1\MP900441101[1].jpg"/>
          <p:cNvPicPr/>
          <p:nvPr/>
        </p:nvPicPr>
        <p:blipFill>
          <a:blip r:embed="rId1"/>
          <a:stretch/>
        </p:blipFill>
        <p:spPr>
          <a:xfrm>
            <a:off x="5715000" y="1981080"/>
            <a:ext cx="3124080" cy="4686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al  Ree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MS900069643[1].wav" descr=""/>
          <p:cNvPicPr/>
          <p:nvPr/>
        </p:nvPicPr>
        <p:blipFill>
          <a:blip r:embed="rId2"/>
          <a:stretch/>
        </p:blipFill>
        <p:spPr>
          <a:xfrm>
            <a:off x="464832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8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114300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 sharks live in eve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ean of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 is som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sharks. First, the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 sharp teeth. They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dangerous. Also,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ks  eat alone. The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 carnivores. They e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phins and seals.  The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ve  5 to 7 gills on ea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e of their bod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C:\Documents and Settings\2049650\Local Settings\Temporary Internet Files\Content.IE5\5L6GU90U\MM900365151[1].gif"/>
          <p:cNvPicPr/>
          <p:nvPr/>
        </p:nvPicPr>
        <p:blipFill>
          <a:blip r:embed="rId1"/>
          <a:stretch/>
        </p:blipFill>
        <p:spPr>
          <a:xfrm>
            <a:off x="4648320" y="1523880"/>
            <a:ext cx="4132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1523520"/>
            <a:ext cx="4267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ahorse lives in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ean.  First, they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n.  Seahorses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1,000 babies.  Als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ther  carries  the eg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 his pocket.  Last ,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 horses  like shall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ho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2049650\Local Settings\Temporary Internet Files\Content.IE5\5L6GU90U\MC900346975[1].wmf"/>
          <p:cNvPicPr/>
          <p:nvPr/>
        </p:nvPicPr>
        <p:blipFill>
          <a:blip r:embed="rId1"/>
          <a:stretch/>
        </p:blipFill>
        <p:spPr>
          <a:xfrm>
            <a:off x="5486400" y="1828800"/>
            <a:ext cx="2876400" cy="389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a grasses are at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 of the ocea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, the grasses are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 green. Also, it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 6 inches tall . Las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 help small anim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e from their enem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the  seawe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gr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www.onr.navy.mil/focus/ocean/images/habitats/seagrass.jpg"/>
          <p:cNvPicPr/>
          <p:nvPr/>
        </p:nvPicPr>
        <p:blipFill>
          <a:blip r:embed="rId1"/>
          <a:stretch/>
        </p:blipFill>
        <p:spPr>
          <a:xfrm>
            <a:off x="4724280" y="1447920"/>
            <a:ext cx="4407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ctopuses live in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ean.  First, the octop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8 legs.  Next, they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nivorous.   Octopu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t  turtles and crab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, they are member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llusk family.  The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 weigh 6.6 to  22lb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top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7" descr="octopus.jpg"/>
          <p:cNvPicPr/>
          <p:nvPr/>
        </p:nvPicPr>
        <p:blipFill>
          <a:blip r:embed="rId1"/>
          <a:stretch/>
        </p:blipFill>
        <p:spPr>
          <a:xfrm>
            <a:off x="4876920" y="1447920"/>
            <a:ext cx="3887640" cy="4495680"/>
          </a:xfrm>
          <a:prstGeom prst="rect">
            <a:avLst/>
          </a:prstGeom>
          <a:ln w="0">
            <a:noFill/>
          </a:ln>
        </p:spPr>
      </p:pic>
      <p:pic>
        <p:nvPicPr>
          <p:cNvPr id="72" name="MS900069592[1].wav" descr=""/>
          <p:cNvPicPr/>
          <p:nvPr/>
        </p:nvPicPr>
        <p:blipFill>
          <a:blip r:embed="rId2"/>
          <a:stretch/>
        </p:blipFill>
        <p:spPr>
          <a:xfrm>
            <a:off x="6477120" y="62485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3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aweed is a type  of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in the ocean. Firs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 can grow  1 feet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inches tall .Next, it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 at the  bottom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 sea. Last, some fis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 their  from the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mies . They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ts. The roots are 2 fee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e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w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http://everystockphoto.s3.amazonaws.com/green_seaweed_beach_222269_l.jpg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ean 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724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24T20:56:21Z</dcterms:modified>
  <cp:revision>35</cp:revision>
  <dc:subject/>
  <dc:title>Title</dc:title>
</cp:coreProperties>
</file>